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77C-D0A7-428F-A181-CFD8A0F3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B9B-8D14-4BF8-B177-B82EE344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506-34B4-44B5-9FC2-EB0EA75F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26A-EDDD-456D-BB66-5C5CE1A6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381-FDBE-4D6B-994A-81D00AB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165-2198-477E-81A3-C4F02A6D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37A-A354-45D2-9951-569990D8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57F-21B6-4FDD-BEAE-292D8468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38C-1032-42E9-BC31-AC5E957A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6D5-AB96-45F5-A825-D3F5D69F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884-CB17-455B-A002-F98DD833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B0B-F441-4D36-8C13-C3DF7F4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B44-3DFC-403F-84C5-344129C2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vitational wave mem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anding univers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David Garfinkl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21, New York, 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4,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mory in the expand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e (2): dust and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universe is lumpy (not near FLR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gravitational waves are short wavelength, so we can use the short wavelength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works the same except for redshift and lensing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urbative and gauge invariant approach to gravitational memory indicates two types of memory: one due to stress-energy that gets to null infinity and one due to stress-energy that doe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in an expanding universe similar to flat spacetime, but with redshift and len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itational wav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urbative and gauge invariant treatment of gravitational wav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in the expanding univers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in the expanding univers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. Bieri, D. Garfinkle and S.T. Yau, arXiv:1509.012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. Bieri, D. Garfinkle and N. Yunes, in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vitational wave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gravitational wave has passed the distance between the arms of the interferometer is different than bef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field slow motion: effect due to a change in the second time derivative of the quadrupol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nonlinear GR treatment: there is an additional effect due to the energy flux of gravitational waves (Christodoulou, PRL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1486 (199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turbative treatment of 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uitive and metric based approaches (Thorne, PR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520 (1992), Wiseman and Will, PR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R2945 (199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iculties with metric based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ll stress-energy that can get out to null infinity is different from timelike stress-energy that can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sual approach to timelike stress-energy where the past null cone of a point at null infinity is replaced by a null plane, the Green’s function integral converges, but for null stress-energy there is a divergence where the source is in the same direction as the field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uge invaria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erturbation theory that is first order in the gravitational field with an electromagnetic field or other source of null stress-energy as th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electric and magnetic parts of the Weyl tensor as the basic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 all fields in powers of 1/r near null in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is second time integral of 1/r piece of electric part of the Weyl ten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gravitational wave memory: one due to angular distribution of energy radiated to null infinity, the other due to a change in the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ponent of the Weyl ten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ffect is primarily due to the </a:t>
            </a:r>
            <a:r>
              <a:rPr b="0" i="1" lang="en-US" sz="3200" spc="-1" strike="noStrike">
                <a:solidFill>
                  <a:srgbClr val="ffffff"/>
                </a:solidFill>
                <a:latin typeface="Script MT Bold"/>
              </a:rPr>
              <a:t>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 p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mory in the expand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e (1) deSitter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yl tensor vanishes in background cosmology, so the same gauge invariant variable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 memory is the same as in flat spacetime except for a redshift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21:25:40Z</dcterms:created>
  <dc:creator>David Garfinkle</dc:creator>
  <dc:description/>
  <dc:language>en-US</dc:language>
  <cp:lastModifiedBy>garfinkl</cp:lastModifiedBy>
  <dcterms:modified xsi:type="dcterms:W3CDTF">2016-07-11T21:35:35Z</dcterms:modified>
  <cp:revision>48</cp:revision>
  <dc:subject/>
  <dc:title>Towards a perturbative treatment of gravitational wave memory</dc:title>
</cp:coreProperties>
</file>