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A075-53F5-48B2-BF7A-C0E4EFB4B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FFD1-FBDC-4D74-A1AA-1876F2C6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0D20-4372-40DC-8188-18AD79BF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ADCC-A120-4619-9FA6-64E587B40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E4C9-124E-4241-8FF3-B66D0A92A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3862-A7D3-449F-8DC5-DD91589A3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A856-6034-49DC-8C12-4B9DE95BB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C48-69E8-4D7A-8363-9AF4E927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988-04DE-461E-AFF5-058E99B6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FBB-9552-47EB-9ADB-9D4A9B56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AEA-E796-47EE-A38D-0A421F33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97F-CDE5-4A71-A16B-F7C1C570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0E1-F750-43D4-9F63-E39F1303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E3D-85EF-4257-BC57-1E52C08D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863-A7DD-42E3-878B-941A562B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626-AAFD-49BB-B55F-5EF47087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073-36A1-45DE-81E8-CF9E0467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A5C-F65E-43E3-A399-CB2E4C2C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777-B47E-4B7A-912B-CE7E1717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4924-35A0-48E1-B763-CBC951D92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quivalence between Active Gravitational Mass and Energy for a Composite Quantum Body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national Conference on General Relativit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ew-York, July 11, 2016)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i G. Lebed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Physics, University of Arizon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.D. Landau Institute for Theoretical Physics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F grant DMR-11045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80880" y="109440"/>
            <a:ext cx="8382240" cy="152424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8120" y="3579840"/>
            <a:ext cx="3047760" cy="609480"/>
          </a:xfrm>
          <a:prstGeom prst="rect">
            <a:avLst/>
          </a:prstGeom>
          <a:solidFill>
            <a:srgbClr val="33cccc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048120" y="59436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alia Le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676520" y="92160"/>
            <a:ext cx="6019560" cy="91440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009960" y="5943600"/>
            <a:ext cx="3124080" cy="45720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560" y="15840"/>
            <a:ext cx="65530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itive Einstein’s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496960" y="1360440"/>
            <a:ext cx="41500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he Einstein’s equation,                , is established for averaged over time active gravitational mass in classical physic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sul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instein’s equation,                , is established for the expectation value of active gravitational mass and energy for stationary quantum sta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For superpositions of stationary quantum states, it is shown that the expectation value of active gravitational mass exhibits time-dependent oscillations even in the case, where the expectation value of energy is consta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Is it possible to experimentally observe these time-dependent oscillations for a macroscopic ensemble of the superpositions?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 be the first direct observation of quantum effects 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After time average procedure, we recover the Einstein’s equ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Content Placeholder 2"/>
              <p:cNvSpPr txBox="1"/>
              <p:nvPr/>
            </p:nvSpPr>
            <p:spPr>
              <a:xfrm>
                <a:off x="3733920" y="1447920"/>
                <a:ext cx="1135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Content Placeholder 2"/>
              <p:cNvSpPr txBox="1"/>
              <p:nvPr/>
            </p:nvSpPr>
            <p:spPr>
              <a:xfrm>
                <a:off x="3733920" y="2743200"/>
                <a:ext cx="1135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passive gravitation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G. Lebed (Poster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down of the Equivalence between Passive Gravitational Mass and Energy for a Quantum Body: Theory and Suggested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experiment on the Earth’s orbit by using of spacecraf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Fig8"/>
          <p:cNvPicPr/>
          <p:nvPr/>
        </p:nvPicPr>
        <p:blipFill>
          <a:blip r:embed="rId1"/>
          <a:stretch/>
        </p:blipFill>
        <p:spPr>
          <a:xfrm>
            <a:off x="3124080" y="1676520"/>
            <a:ext cx="5484960" cy="79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Fig9"/>
          <p:cNvPicPr/>
          <p:nvPr/>
        </p:nvPicPr>
        <p:blipFill>
          <a:blip r:embed="rId2"/>
          <a:stretch/>
        </p:blipFill>
        <p:spPr>
          <a:xfrm>
            <a:off x="3048120" y="2590920"/>
            <a:ext cx="5410080" cy="198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Fig10"/>
          <p:cNvPicPr/>
          <p:nvPr/>
        </p:nvPicPr>
        <p:blipFill>
          <a:blip r:embed="rId3"/>
          <a:stretch/>
        </p:blipFill>
        <p:spPr>
          <a:xfrm>
            <a:off x="3352680" y="4800600"/>
            <a:ext cx="5292720" cy="7365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1144440" y="54100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533520" y="4800600"/>
            <a:ext cx="2286000" cy="10666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066680"/>
              <a:gd name="textAreaBottom" fmla="*/ 380880 h 10666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969696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 rot="16200000">
            <a:off x="1195560" y="3071520"/>
            <a:ext cx="990360" cy="485640"/>
          </a:xfrm>
          <a:custGeom>
            <a:avLst/>
            <a:gdLst>
              <a:gd name="textAreaLeft" fmla="*/ 0 w 990360"/>
              <a:gd name="textAreaRight" fmla="*/ 990720 w 9903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V="1">
            <a:off x="1676520" y="3657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17524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1371600" y="1600200"/>
            <a:ext cx="685800" cy="609480"/>
          </a:xfrm>
          <a:custGeom>
            <a:avLst/>
            <a:gdLst>
              <a:gd name="textAreaLeft" fmla="*/ 282600 w 685800"/>
              <a:gd name="textAreaRight" fmla="*/ 403200 w 6858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1447920" y="3505320"/>
            <a:ext cx="457200" cy="3808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2209680" y="30481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 flipV="1">
            <a:off x="2133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196920" y="578016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G. Lebed,   Int. J. Mod. Phys. D, v. 24, 1530027 (2015);  J. Phys.: Conf. Ser. v. 49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2154 (2014);  Adv. High Ener. Phys. v. 2014, 678087 (2014);  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. J. Phys. v. 11, p. 969 (20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800280" y="181080"/>
            <a:ext cx="7846920" cy="129528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196920" y="5776920"/>
            <a:ext cx="8794800" cy="94284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0"/>
          <p:cNvSpPr/>
          <p:nvPr/>
        </p:nvSpPr>
        <p:spPr>
          <a:xfrm>
            <a:off x="3352680" y="4800600"/>
            <a:ext cx="5181840" cy="914400"/>
          </a:xfrm>
          <a:prstGeom prst="ellipse">
            <a:avLst/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de the Space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4"/>
              <p:cNvSpPr txBox="1"/>
              <p:nvPr/>
            </p:nvSpPr>
            <p:spPr>
              <a:xfrm>
                <a:off x="2743200" y="4648320"/>
                <a:ext cx="5335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9"/>
              <p:cNvSpPr txBox="1"/>
              <p:nvPr/>
            </p:nvSpPr>
            <p:spPr>
              <a:xfrm>
                <a:off x="5257800" y="3124080"/>
                <a:ext cx="2514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ω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AutoShape 4"/>
          <p:cNvSpPr/>
          <p:nvPr/>
        </p:nvSpPr>
        <p:spPr>
          <a:xfrm rot="16200000">
            <a:off x="419040" y="2704680"/>
            <a:ext cx="3809880" cy="266688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 flipV="1">
            <a:off x="4191120" y="38098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143000" y="4343400"/>
            <a:ext cx="1523880" cy="14479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345200" y="411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1676520" y="50292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182880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18288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1905120" y="5410080"/>
            <a:ext cx="5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1982880" y="4800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28195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 flipH="1">
            <a:off x="3200400" y="472428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1"/>
              <p:cNvSpPr txBox="1"/>
              <p:nvPr/>
            </p:nvSpPr>
            <p:spPr>
              <a:xfrm>
                <a:off x="4876920" y="4648320"/>
                <a:ext cx="33526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ℏ</m:t>
                            </m:r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</m:d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4495680" y="5562720"/>
                <a:ext cx="37339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ℏ</m:t>
                            </m:r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e>
                    </m:d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0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Line 24"/>
          <p:cNvSpPr/>
          <p:nvPr/>
        </p:nvSpPr>
        <p:spPr>
          <a:xfrm>
            <a:off x="5257800" y="2590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5"/>
          <p:cNvSpPr/>
          <p:nvPr/>
        </p:nvSpPr>
        <p:spPr>
          <a:xfrm>
            <a:off x="5257800" y="1371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6"/>
          <p:cNvSpPr/>
          <p:nvPr/>
        </p:nvSpPr>
        <p:spPr>
          <a:xfrm>
            <a:off x="5410080" y="24382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7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8"/>
          <p:cNvSpPr/>
          <p:nvPr/>
        </p:nvSpPr>
        <p:spPr>
          <a:xfrm>
            <a:off x="6781680" y="24382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9"/>
          <p:cNvSpPr/>
          <p:nvPr/>
        </p:nvSpPr>
        <p:spPr>
          <a:xfrm>
            <a:off x="6324480" y="12193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0"/>
          <p:cNvSpPr/>
          <p:nvPr/>
        </p:nvSpPr>
        <p:spPr>
          <a:xfrm>
            <a:off x="6477120" y="13716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1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32"/>
          <p:cNvGraphicFramePr/>
          <p:nvPr/>
        </p:nvGraphicFramePr>
        <p:xfrm>
          <a:off x="6858000" y="1600200"/>
          <a:ext cx="501480" cy="3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1600200"/>
                    <a:ext cx="5014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35"/>
          <p:cNvGraphicFramePr/>
          <p:nvPr/>
        </p:nvGraphicFramePr>
        <p:xfrm>
          <a:off x="7391520" y="2362320"/>
          <a:ext cx="32544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2362320"/>
                    <a:ext cx="325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36"/>
          <p:cNvGraphicFramePr/>
          <p:nvPr/>
        </p:nvGraphicFramePr>
        <p:xfrm>
          <a:off x="7467480" y="1219320"/>
          <a:ext cx="34920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1219320"/>
                    <a:ext cx="349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7"/>
          <p:cNvSpPr/>
          <p:nvPr/>
        </p:nvSpPr>
        <p:spPr>
          <a:xfrm>
            <a:off x="2438280" y="228600"/>
            <a:ext cx="4267440" cy="68580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2"/>
              <p:cNvSpPr txBox="1"/>
              <p:nvPr/>
            </p:nvSpPr>
            <p:spPr>
              <a:xfrm>
                <a:off x="5334120" y="3657600"/>
                <a:ext cx="2438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ω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ϕ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∝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gravitational mass of a composite body in a classical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1050840" y="27813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1965240" y="1943280"/>
            <a:ext cx="381240" cy="380880"/>
          </a:xfrm>
          <a:prstGeom prst="ellipse">
            <a:avLst/>
          </a:prstGeom>
          <a:solidFill>
            <a:srgbClr val="0000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272680" y="23241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(-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1815120" y="339084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n (+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 flipV="1">
            <a:off x="1508040" y="20952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9"/>
          <p:cNvGraphicFramePr/>
          <p:nvPr/>
        </p:nvGraphicFramePr>
        <p:xfrm>
          <a:off x="1965240" y="2629080"/>
          <a:ext cx="263520" cy="2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2629080"/>
                    <a:ext cx="2635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Line 20"/>
          <p:cNvSpPr/>
          <p:nvPr/>
        </p:nvSpPr>
        <p:spPr>
          <a:xfrm flipV="1">
            <a:off x="1508040" y="2506320"/>
            <a:ext cx="413064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1"/>
          <p:cNvGraphicFramePr/>
          <p:nvPr/>
        </p:nvGraphicFramePr>
        <p:xfrm>
          <a:off x="3627360" y="2916360"/>
          <a:ext cx="289080" cy="31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7360" y="2916360"/>
                    <a:ext cx="28908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28"/>
          <p:cNvSpPr/>
          <p:nvPr/>
        </p:nvSpPr>
        <p:spPr>
          <a:xfrm>
            <a:off x="747720" y="219240"/>
            <a:ext cx="7696080" cy="114300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6" name="Picture 4" descr="Fig1"/>
          <p:cNvPicPr/>
          <p:nvPr/>
        </p:nvPicPr>
        <p:blipFill>
          <a:blip r:embed="rId5"/>
          <a:stretch/>
        </p:blipFill>
        <p:spPr>
          <a:xfrm>
            <a:off x="735120" y="4313160"/>
            <a:ext cx="7396200" cy="1468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5748480" y="2136600"/>
                <a:ext cx="19526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4478400" y="3103560"/>
                <a:ext cx="34434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sSub>
                      <m:e>
                        <m:r>
                          <m:t xml:space="preserve">&gt;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Rectangle 1"/>
          <p:cNvSpPr/>
          <p:nvPr/>
        </p:nvSpPr>
        <p:spPr>
          <a:xfrm>
            <a:off x="1390680" y="6062760"/>
            <a:ext cx="63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. Nordtvedt, Class. Quantum Grav., v. 11, p. A119 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 Carlip, Am. J. Phys., v. 66, p. 409 (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384200" y="6039000"/>
            <a:ext cx="6097680" cy="684000"/>
          </a:xfrm>
          <a:prstGeom prst="rect">
            <a:avLst/>
          </a:prstGeom>
          <a:solidFill>
            <a:srgbClr val="33cccc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field approx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2028960" y="487440"/>
            <a:ext cx="5181480" cy="91440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928800" y="2286000"/>
                <a:ext cx="2104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6629400" y="2309760"/>
                <a:ext cx="11286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3505320" y="2263680"/>
                <a:ext cx="5014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Rectangle 7"/>
          <p:cNvSpPr/>
          <p:nvPr/>
        </p:nvSpPr>
        <p:spPr>
          <a:xfrm>
            <a:off x="3886200" y="2352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Minkowski metric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2039760" y="3405240"/>
                <a:ext cx="21434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9"/>
              <p:cNvSpPr txBox="1"/>
              <p:nvPr/>
            </p:nvSpPr>
            <p:spPr>
              <a:xfrm>
                <a:off x="5037120" y="3478320"/>
                <a:ext cx="15764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sup>
                    </m:sSup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10"/>
              <p:cNvSpPr txBox="1"/>
              <p:nvPr/>
            </p:nvSpPr>
            <p:spPr>
              <a:xfrm>
                <a:off x="2093760" y="4343400"/>
                <a:ext cx="4740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G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|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|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|</m:t>
                            </m:r>
                          </m:den>
                        </m:f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1"/>
              <p:cNvSpPr txBox="1"/>
              <p:nvPr/>
            </p:nvSpPr>
            <p:spPr>
              <a:xfrm>
                <a:off x="2525760" y="5334120"/>
                <a:ext cx="33163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7600" y="35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gravitational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Content Placeholder 3"/>
              <p:cNvSpPr txBox="1"/>
              <p:nvPr/>
            </p:nvSpPr>
            <p:spPr>
              <a:xfrm>
                <a:off x="1676520" y="1676520"/>
                <a:ext cx="1736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φ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1828800" y="2690640"/>
                <a:ext cx="5029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sup>
                    </m:sSup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" name="Rectangle 28"/>
          <p:cNvSpPr/>
          <p:nvPr/>
        </p:nvSpPr>
        <p:spPr>
          <a:xfrm>
            <a:off x="2028960" y="487440"/>
            <a:ext cx="5181480" cy="91440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"/>
              <p:cNvSpPr txBox="1"/>
              <p:nvPr/>
            </p:nvSpPr>
            <p:spPr>
              <a:xfrm>
                <a:off x="1828800" y="3540240"/>
                <a:ext cx="4398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2"/>
              <p:cNvSpPr txBox="1"/>
              <p:nvPr/>
            </p:nvSpPr>
            <p:spPr>
              <a:xfrm>
                <a:off x="4648320" y="1676520"/>
                <a:ext cx="124776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205000" y="4616280"/>
                <a:ext cx="4653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1523880" y="5491080"/>
                <a:ext cx="54961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αα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i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αα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pot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-energy ten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1981080" y="430200"/>
            <a:ext cx="5181840" cy="91440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Content Placeholder 4"/>
              <p:cNvSpPr txBox="1"/>
              <p:nvPr/>
            </p:nvSpPr>
            <p:spPr>
              <a:xfrm>
                <a:off x="1143000" y="2133720"/>
                <a:ext cx="407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sup>
                    </m:sSup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[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5"/>
              <p:cNvSpPr txBox="1"/>
              <p:nvPr/>
            </p:nvSpPr>
            <p:spPr>
              <a:xfrm>
                <a:off x="5943600" y="2124000"/>
                <a:ext cx="1616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α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1143000" y="3313080"/>
                <a:ext cx="3724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sup>
                        </m:sSup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ν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sub>
                        </m:sSub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5943600" y="3300480"/>
                <a:ext cx="1616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α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1530360" y="4724280"/>
                <a:ext cx="5245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436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virial theorem and Einstein’s eq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1677960" y="2001960"/>
                <a:ext cx="5245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28"/>
          <p:cNvSpPr/>
          <p:nvPr/>
        </p:nvSpPr>
        <p:spPr>
          <a:xfrm>
            <a:off x="952560" y="204840"/>
            <a:ext cx="7277040" cy="131904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5"/>
              <p:cNvSpPr txBox="1"/>
              <p:nvPr/>
            </p:nvSpPr>
            <p:spPr>
              <a:xfrm>
                <a:off x="3541680" y="2987640"/>
                <a:ext cx="19749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6"/>
              <p:cNvSpPr txBox="1"/>
              <p:nvPr/>
            </p:nvSpPr>
            <p:spPr>
              <a:xfrm>
                <a:off x="1328760" y="3699000"/>
                <a:ext cx="5943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sSub>
                      <m:e>
                        <m:r>
                          <m:t xml:space="preserve">&gt;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2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7"/>
              <p:cNvSpPr txBox="1"/>
              <p:nvPr/>
            </p:nvSpPr>
            <p:spPr>
              <a:xfrm>
                <a:off x="4537080" y="4853160"/>
                <a:ext cx="2298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sSub>
                      <m:e>
                        <m:r>
                          <m:t xml:space="preserve">&gt;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Rectangle 8"/>
          <p:cNvSpPr/>
          <p:nvPr/>
        </p:nvSpPr>
        <p:spPr>
          <a:xfrm>
            <a:off x="1974960" y="506268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stein’s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1677960" y="5907240"/>
            <a:ext cx="63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. Nordtvedt, Class. Quantum Grav., v. 11, p. A119 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 Carlip, Am. J. Phys., v. 66, p. 409 (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633680" y="5943600"/>
            <a:ext cx="6062400" cy="609480"/>
          </a:xfrm>
          <a:prstGeom prst="rect">
            <a:avLst/>
          </a:prstGeom>
          <a:solidFill>
            <a:srgbClr val="33cccc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05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nstein’s equation in semi-classical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3559320" y="1619280"/>
                <a:ext cx="33033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G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Rectangle 28"/>
          <p:cNvSpPr/>
          <p:nvPr/>
        </p:nvSpPr>
        <p:spPr>
          <a:xfrm>
            <a:off x="482760" y="573120"/>
            <a:ext cx="8229600" cy="91440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1697040" y="2570040"/>
                <a:ext cx="52452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1697040" y="3886200"/>
                <a:ext cx="52452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7"/>
              <p:cNvSpPr txBox="1"/>
              <p:nvPr/>
            </p:nvSpPr>
            <p:spPr>
              <a:xfrm>
                <a:off x="1595520" y="5168880"/>
                <a:ext cx="54626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8"/>
          <p:cNvSpPr/>
          <p:nvPr/>
        </p:nvSpPr>
        <p:spPr>
          <a:xfrm>
            <a:off x="1075680" y="179388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stein’s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virial theorem and Einstein’s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809640" y="266760"/>
            <a:ext cx="7543800" cy="114300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838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83808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7"/>
          <p:cNvSpPr/>
          <p:nvPr/>
        </p:nvSpPr>
        <p:spPr>
          <a:xfrm>
            <a:off x="838080" y="2590920"/>
            <a:ext cx="304920" cy="304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8"/>
          <p:cNvSpPr/>
          <p:nvPr/>
        </p:nvSpPr>
        <p:spPr>
          <a:xfrm>
            <a:off x="1371600" y="2590920"/>
            <a:ext cx="304920" cy="304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219400" y="18972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scopic ensemble of hydrogen atoms with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9"/>
              <p:cNvSpPr txBox="1"/>
              <p:nvPr/>
            </p:nvSpPr>
            <p:spPr>
              <a:xfrm>
                <a:off x="4543560" y="2351160"/>
                <a:ext cx="3934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Rectangle 10"/>
          <p:cNvSpPr/>
          <p:nvPr/>
        </p:nvSpPr>
        <p:spPr>
          <a:xfrm>
            <a:off x="809640" y="312120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um virial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260280" y="2503440"/>
                <a:ext cx="393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2"/>
              <p:cNvSpPr txBox="1"/>
              <p:nvPr/>
            </p:nvSpPr>
            <p:spPr>
              <a:xfrm>
                <a:off x="4338720" y="2908440"/>
                <a:ext cx="1716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⟨"/>
                        <m:endChr m:val="⟩"/>
                      </m:dPr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3"/>
              <p:cNvSpPr txBox="1"/>
              <p:nvPr/>
            </p:nvSpPr>
            <p:spPr>
              <a:xfrm>
                <a:off x="1523880" y="3873600"/>
                <a:ext cx="54626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f>
                              <m:num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4"/>
              <p:cNvSpPr txBox="1"/>
              <p:nvPr/>
            </p:nvSpPr>
            <p:spPr>
              <a:xfrm>
                <a:off x="4338720" y="4937040"/>
                <a:ext cx="21636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&gt;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Rectangle 15"/>
          <p:cNvSpPr/>
          <p:nvPr/>
        </p:nvSpPr>
        <p:spPr>
          <a:xfrm>
            <a:off x="860400" y="5140440"/>
            <a:ext cx="285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stein’s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1238400" y="6040440"/>
            <a:ext cx="70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G. Lebed, Int. J. Mod. Phys. D, vol. 24, p. 1530027 (201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G. Lebed, Adv. in High Ener. Phys., vol. 2014, p. 678087 (201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143000" y="6022800"/>
            <a:ext cx="6934320" cy="663840"/>
          </a:xfrm>
          <a:prstGeom prst="rect">
            <a:avLst/>
          </a:prstGeom>
          <a:solidFill>
            <a:srgbClr val="33cccc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down of Einstein’s equation for superposition of stationary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809640" y="266760"/>
            <a:ext cx="7543800" cy="1143000"/>
          </a:xfrm>
          <a:prstGeom prst="rect">
            <a:avLst/>
          </a:pr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2206800" y="2046240"/>
                <a:ext cx="61466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Line 24"/>
          <p:cNvSpPr/>
          <p:nvPr/>
        </p:nvSpPr>
        <p:spPr>
          <a:xfrm>
            <a:off x="838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83808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7"/>
          <p:cNvSpPr/>
          <p:nvPr/>
        </p:nvSpPr>
        <p:spPr>
          <a:xfrm>
            <a:off x="1104840" y="2612880"/>
            <a:ext cx="304920" cy="304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8"/>
          <p:cNvSpPr/>
          <p:nvPr/>
        </p:nvSpPr>
        <p:spPr>
          <a:xfrm>
            <a:off x="1104840" y="1951200"/>
            <a:ext cx="304920" cy="304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260280" y="2503440"/>
                <a:ext cx="393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208080" y="1817640"/>
                <a:ext cx="422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1"/>
              <p:cNvSpPr txBox="1"/>
              <p:nvPr/>
            </p:nvSpPr>
            <p:spPr>
              <a:xfrm>
                <a:off x="1981080" y="3962520"/>
                <a:ext cx="51231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&gt;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3363840" y="2982960"/>
                <a:ext cx="2433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&gt;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Rectangle 13"/>
          <p:cNvSpPr/>
          <p:nvPr/>
        </p:nvSpPr>
        <p:spPr>
          <a:xfrm>
            <a:off x="1990080" y="508176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stein’s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4"/>
              <p:cNvSpPr txBox="1"/>
              <p:nvPr/>
            </p:nvSpPr>
            <p:spPr>
              <a:xfrm>
                <a:off x="4541760" y="4943520"/>
                <a:ext cx="17589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lt;&lt;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m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&gt;</m:t>
                    </m:r>
                    <m:f>
                      <m:num/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Rectangle 1"/>
          <p:cNvSpPr/>
          <p:nvPr/>
        </p:nvSpPr>
        <p:spPr>
          <a:xfrm>
            <a:off x="1523880" y="5961240"/>
            <a:ext cx="65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G. Lebed, Int. J. Mod. Phys. D, vol. 24, 1530027 (201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G. Lebed, Adv. High Ener. Phys., vol. 2014, 678087 (201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522440" y="5991120"/>
            <a:ext cx="6402240" cy="609840"/>
          </a:xfrm>
          <a:prstGeom prst="rect">
            <a:avLst/>
          </a:prstGeom>
          <a:solidFill>
            <a:srgbClr val="33cccc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8:01:01Z</dcterms:created>
  <dc:creator>C</dc:creator>
  <dc:description/>
  <dc:language>en-US</dc:language>
  <cp:lastModifiedBy>Lebed</cp:lastModifiedBy>
  <cp:lastPrinted>2012-02-22T21:22:01Z</cp:lastPrinted>
  <dcterms:modified xsi:type="dcterms:W3CDTF">2016-07-04T20:54:54Z</dcterms:modified>
  <cp:revision>461</cp:revision>
  <dc:subject/>
  <dc:title>Slide 1</dc:title>
</cp:coreProperties>
</file>